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E3EC-CED8-4EF8-9575-94B9D9FE99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9000-BC1D-4AA6-A5BA-3EFA3F3D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D074-63B1-4DDD-8D31-469F5FE6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8812-A348-4C88-A2B9-5EE3969FD5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78DB-6205-411B-88DD-653871D7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BD7D-60AC-4138-84F3-B10577C2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325C-31ED-49D6-8018-29022E84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4F65-2077-4E98-A9D7-F73B9B25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4B0C-D06F-48A0-A1F2-A7922180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26CA-C251-4A86-A9E1-19AD9371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D862-ABBA-4B1B-A2B4-C415DE9F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D5C0-BFB0-4637-8BEF-1CD3DB1C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267080" y="6172200"/>
            <a:ext cx="567000" cy="57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720" y="632412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3372-B530-4CC9-A64B-E56109B2EDB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228240" y="6325920"/>
            <a:ext cx="21337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– EEE3017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 Verrinder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95680" y="6095880"/>
            <a:ext cx="567000" cy="57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9080" y="696600"/>
            <a:ext cx="7808760" cy="29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228240" y="6325920"/>
            <a:ext cx="21337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– EEE3017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 Verrinder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I2C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Opencollecto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nter Integrated Circuit Bu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protocol was developed by Philips and is a registered trad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ometimes referred to as a “2 wire interfa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ypically used to connect low speed peripherals to embedded systems, motherboard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B0B4-3515-45C9-BCF9-C45020C380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T16 has a dedicated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unit sends and receiv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the master or sl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speed is 100k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ont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7480" y="259236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0168-195C-4F9D-B1FF-B9A43EDBFF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70320" y="1600200"/>
            <a:ext cx="42033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CAC5-66BE-4B3C-8A2F-FA939E3686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1680" y="1600200"/>
            <a:ext cx="620064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3520" y="1981080"/>
            <a:ext cx="3809880" cy="1752840"/>
            <a:chOff x="533520" y="1981080"/>
            <a:chExt cx="3809880" cy="1752840"/>
          </a:xfrm>
        </p:grpSpPr>
        <p:grpSp>
          <p:nvGrpSpPr>
            <p:cNvPr id="109" name=""/>
            <p:cNvGrpSpPr/>
            <p:nvPr/>
          </p:nvGrpSpPr>
          <p:grpSpPr>
            <a:xfrm>
              <a:off x="990720" y="2209680"/>
              <a:ext cx="3352680" cy="1524240"/>
              <a:chOff x="990720" y="2209680"/>
              <a:chExt cx="3352680" cy="1524240"/>
            </a:xfrm>
          </p:grpSpPr>
          <p:sp>
            <p:nvSpPr>
              <p:cNvPr id="110" name=""/>
              <p:cNvSpPr/>
              <p:nvPr/>
            </p:nvSpPr>
            <p:spPr>
              <a:xfrm>
                <a:off x="4114800" y="3429000"/>
                <a:ext cx="228600" cy="304920"/>
              </a:xfrm>
              <a:prstGeom prst="rect">
                <a:avLst/>
              </a:pr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990720" y="2209680"/>
                <a:ext cx="3124080" cy="13716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33520" y="1981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5262-6DE1-491E-8686-13816C6DF3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only uses two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A –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L – Serial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capacitance limits the speed of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mits the speed of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devices to below 400k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167440" cy="14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25DF-3521-42FD-9340-A16E638CB8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Multiple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tocol allows many slaves to be connected to one master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evice has a 7-bi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dress is often set by tying pins on the actual device HIGH or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address values are built into the device, based on what type of device 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A sample schematic with one master (a microcontroller) and three slave nodes (an ADC, a DAC, and another microcontroller) with pull-up resistors R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523880"/>
            <a:ext cx="5867640" cy="20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F01E-365E-4C4C-A0F2-00094AA00B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Data Transfer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I, the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master supplies the clock on the SC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DA line can only change when the SCL line is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CL line is LOW the next bit of data is clocked onto the SDA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one for each bit in turn starting with the M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6D43-C759-4B0B-8892-45341D7C21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Start and Stop bit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ignal the start of data transmission the SDA line changes from HIGH to LOW while the SCL lin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start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dicate the end of data transmission the SDA line brought from LOW to HIGH while the SCL lin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stop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rt from the Start and Stop condition, the SDA line must never change state while SCL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1C19-2941-4517-8067-B7D287946E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Data Acknowledgemen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more complex than 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ter device must be able to check whether a device is present and respo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a byte of data has been transmitted , the receiving device pulls the SDA line LOW for one bi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acknowledg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st can now check if the slave received its data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CA92-1EB3-48E8-9286-5EA468C409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Timing Diagram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03400" y="1600200"/>
            <a:ext cx="51372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4D45-994E-452F-985C-8C1162AD5A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Physical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devices have either open collector or open drain outputs on their SDA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ne is pulled up by an external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at devices can not damage each other by asserting different logic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A simplified schematic of the externalized (open) collector of an integrated circuit (IC)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0DF4-9C9D-412B-8D6C-088A6724E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Device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evi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Cxx EEPROM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4 indicates that is an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evice and the xx represents th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9B2C-D677-4DD6-8883-685B5A9EC5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9:44:31Z</dcterms:created>
  <dc:creator>Robyn Verrinder</dc:creator>
  <dc:description/>
  <dc:language>en-US</dc:language>
  <cp:lastModifiedBy>Robyn Verrinder</cp:lastModifiedBy>
  <dcterms:modified xsi:type="dcterms:W3CDTF">2008-05-07T12:15:14Z</dcterms:modified>
  <cp:revision>16</cp:revision>
  <dc:subject/>
  <dc:title>Inter Integrated Circuit Bus</dc:title>
</cp:coreProperties>
</file>